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4AE-33B8-4667-A019-6DC5AC18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F54-EE61-42D9-B638-2324557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C24-5C18-4EE2-8044-3360029E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7D7-F6BC-408B-9807-C26E4A10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D87-19C1-495F-93E5-E5E9BF2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B01-172F-47DF-96AA-BDD43AB6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3C6-4B17-4289-9BB9-9171F079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859-DA88-42E2-8552-FFF8829D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972-2501-458C-B2A6-2CAC495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6C5-BE75-45F9-8DE4-8062329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C87-E880-404C-B057-3B40ABD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E54-7B95-4415-B7DE-A23DDA8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6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9F3-5DA2-407C-A489-E6E2BBD5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V3"/>
          <p:cNvPicPr/>
          <p:nvPr/>
        </p:nvPicPr>
        <p:blipFill>
          <a:blip r:embed="rId2"/>
          <a:stretch/>
        </p:blipFill>
        <p:spPr>
          <a:xfrm>
            <a:off x="260280" y="179280"/>
            <a:ext cx="2232000" cy="862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476280" y="611280"/>
            <a:ext cx="6265800" cy="84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　　　大阪府立大学 ２１世紀科学研究機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「分子エレクトロニックデバイス研究所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earch Institute for Molecular Electronic De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www.osakafu-u.ac.jp/affiliate/21c/laboratory/01_electronic_devic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fock.c.s.osakafu-u.ac.jp/~shiro/RIM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回 研究会　有機エレクトロニクスを指向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　　　　　　　　　　　　　新規材料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場　 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大阪府立大学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−sit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ん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 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sakafu-u.ac.jp/isitenanba/map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 　地下鉄御堂筋線「なんば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号出口）」下車、南へ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000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徒歩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 　地下鉄御堂筋線・四つ橋線「大国町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番出口）」下車、東へ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0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徒歩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ご注意）建物北側の大阪府立大学専用入口からお入り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日　 時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平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（金）午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よ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主 　催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大阪府立大学分子エレクトロニックデバイス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共　 催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大阪府立大学ニュー・フロンティア材料研究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参加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無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開会のごあいさ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内藤　裕義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大阪府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1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“分子エレクトロニクスにおける素子開発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寺尾　潤　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京都大学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1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“アセチレンを主骨格に持つ有機材料の合成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折田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明浩 （岡山理科大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（休憩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2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2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“帝人での有機エレクトロニクスのための材料開発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池田　吉紀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帝人株式会社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2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　　　   閉会のごあいさつ （名刺交換会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小関　史朗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大阪府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08:50:19Z</dcterms:created>
  <dc:creator>Shiro KOSEKI</dc:creator>
  <dc:description/>
  <dc:language>en-US</dc:language>
  <cp:lastModifiedBy>shiro</cp:lastModifiedBy>
  <cp:lastPrinted>2012-06-07T03:13:53Z</cp:lastPrinted>
  <dcterms:modified xsi:type="dcterms:W3CDTF">2013-06-11T10:50:33Z</dcterms:modified>
  <cp:revision>57</cp:revision>
  <dc:subject/>
  <dc:title>スライド 1</dc:title>
</cp:coreProperties>
</file>