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EA9E-A4D3-4B09-B304-C1FF5DBB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938B-9E0A-4C9D-BA5D-704D65EB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1C67-D3CE-4367-8F4F-8E125BEF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8721-CC86-470A-9F4C-95E1177D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3D9C-4A19-4008-9B48-1E685EC0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5C0-AB1C-481B-BF12-856F34C4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C14-3AE3-4BE0-A898-A8B7449F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875D-80F8-4CC8-90AF-B2D163BA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C9BA-5B73-423B-AA82-BB23B6F9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8D0-A3DD-49DB-B2DF-C94DF16D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B4E-A117-403C-9B01-A0E37333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8596-811C-4B4C-9C81-63543364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6d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4D3A-EFA2-4578-885D-3BDFC6C26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V3"/>
          <p:cNvPicPr/>
          <p:nvPr/>
        </p:nvPicPr>
        <p:blipFill>
          <a:blip r:embed="rId2"/>
          <a:stretch/>
        </p:blipFill>
        <p:spPr>
          <a:xfrm>
            <a:off x="260280" y="179280"/>
            <a:ext cx="2232000" cy="8622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476280" y="611280"/>
            <a:ext cx="6265800" cy="84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　　　　　　　　　　　　　　大阪府立大学 ２１世紀科学研究機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「分子エレクトロニックデバイス研究所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search Institute for Molecular Electronic Dev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http://www.osakafu-u.ac.jp/affiliate/21c/laboratory/01_electronic_devic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http://fock.c.s.osakafu-u.ac.jp/~shiro/RIME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回 研究会　有機エレクトロニクスを指向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　　　　　　　　　　　　　　新規材料開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場　 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大阪府立大学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−sit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ん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 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osakafu-u.ac.jp/isitenanba/map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 　地下鉄御堂筋線「なんば駅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号出口）」下車、南へ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000m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、徒歩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 　地下鉄御堂筋線・四つ橋線「大国町駅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番出口）」下車、東へ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0m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、徒歩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ご注意）建物北側の大阪府立大学専用入口からお入り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日　 時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平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（金）午後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時よ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主 　催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大阪府立大学分子エレクトロニックデバイス研究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共　 催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大阪府立大学ニュー・フロンティア材料研究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参加費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無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プログラ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00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開会のごあいさ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　　　　　　　　　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内藤　裕義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大阪府立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大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学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10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: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“分子エレクトロニクスにおける素子開発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　　　　　　　　　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寺尾　潤　 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京都大学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:10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: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“アセチレンを主骨格に持つ有機材料の合成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　　　　　　　　　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折田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明浩 （岡山理科大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学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　　　　　　　　　（休憩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:20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:2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“帝人での有機エレクトロニクスのための材料開発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　　　　　　　　　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池田　吉紀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帝人株式会社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:20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 　　　   閉会のごあいさつ （名刺交換会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　　　　　　　　　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小関　史朗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大阪府立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大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学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8T08:50:19Z</dcterms:created>
  <dc:creator>Shiro KOSEKI</dc:creator>
  <dc:description/>
  <dc:language>en-US</dc:language>
  <cp:lastModifiedBy>shiro</cp:lastModifiedBy>
  <cp:lastPrinted>2012-06-07T03:13:53Z</cp:lastPrinted>
  <dcterms:modified xsi:type="dcterms:W3CDTF">2013-06-11T10:50:33Z</dcterms:modified>
  <cp:revision>57</cp:revision>
  <dc:subject/>
  <dc:title>スライド 1</dc:title>
</cp:coreProperties>
</file>